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B5AE-2337-4DE7-9C49-F7F88B03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4967-03CE-45F4-9AF4-7E9A00A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E596-9AA8-4AC2-A3D1-843F1CE0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1B34-3455-47A9-B24E-8DA6D4A0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6991-449B-479C-924D-F15C0271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A04D-E976-4074-A469-F73C4365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9326-A186-4C43-8EDE-E47741DC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38AB-F285-434F-83CB-9AC048FB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B941-1F39-49F3-BCD4-961F3690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7F78-B6C1-4085-BF07-06AFAD9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1870-CB17-4339-8EEA-BCCDF8A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A701-2C6F-41DF-973F-66684C3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76A-79EE-466C-A14D-C6BBD0F4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A9A8-C37B-4906-A077-DE7996A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5794-7F92-48EC-AF26-4D8C6119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74FE-82F0-4033-A1C9-87CC1F5C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640-0C58-4161-A692-AFC924FB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B904-0C8F-4970-89D7-0FF4392F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9C66-E969-4E6F-B1E7-3648EF7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C469-573A-495B-8552-907FAB5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6DA4-4B15-4151-9303-F9173093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5479-3E3C-4FEE-AD7B-27DD8EEC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C909-45A1-4502-81BC-CD9CF6B9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F2D9-3E77-46E3-9B6F-20C33D8E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BE42-9628-4287-9669-2397C70CB2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F0A3-E3F4-42E5-939E-3FFB82B2B1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21</a:t>
            </a:r>
            <a:r>
              <a:rPr b="1" lang="en-US" sz="5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Century Learne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ultural Brai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This digital generation has developed “hyperlinked minds”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0" y="76320"/>
            <a:ext cx="914400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Z-Pattern Learner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2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Read from left to right and top  to bottom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-Pattern Learners (Digitial Learners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gnore right side and bottom of pag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imics video games and web surf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Digital Learn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ck access and multiple sources of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i-tas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fer pics, sound, videos—images vs.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-media and many sources at o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fer to network with others vs. individual/independent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 for right now; “just in time”; adap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nt gratification, want affirmation and att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ing to be relevant, fun, use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Shape learning to the students rather shaping the students to the learning as we do now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To keep the digital learner motivated learning must be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  <a:ea typeface="Calibri"/>
              </a:rPr>
              <a:t>FUN          RELEVANT          USEFU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Meehl</dc:creator>
  <dc:description/>
  <dc:language>en-US</dc:language>
  <cp:lastModifiedBy>Windows User</cp:lastModifiedBy>
  <dcterms:modified xsi:type="dcterms:W3CDTF">2015-03-28T15:22:55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