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6D5EB-6EA6-4DBC-88E3-D6C7B7AE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3817-3B14-4FAD-94A2-60E5935A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9DCCE-25DF-437C-B8F9-6059CFA9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683C0-371D-4A8F-A3B7-8D838DCD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1977-4753-42C2-8709-C07A5F54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152E-5CB3-490E-B2C4-5F14EC99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BB72-9643-44FE-995A-52CF7D18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1717-5E10-4C74-85EE-CF333DD6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235E-98EE-4307-80B0-C9F09875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6D85-8BDB-4FA8-AD40-C9158F6C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5B41-2AEE-40CF-923C-13B3F924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EC4FE-A53F-496C-ACC1-6CD00B76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782D-4C9F-431A-9E9F-A372EBA5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1B16-29A5-4EE5-838A-A03CA1B0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7244-4831-40D9-A571-10BE2437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05BC-9DE7-4272-A3F6-43B3DDEE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A53E-B4B8-4BE5-BAD3-2B9AA244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5596A-9867-45F9-9831-2F9483BA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04204-5AB6-40E7-81CC-4DF0C645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B3AD1-D25A-4928-9333-12CCF66D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8E0E8-B2D0-4246-9328-C632C571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7E3B7-C19C-45E1-96C2-A965A77D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72A77-98D7-4B05-ABB6-54476746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2838E-67E6-4F52-8556-AE3996A0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66FB-0B3D-4582-BDC5-7AE9066458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1B77-DE10-498B-AEFC-BD722BB103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21</a:t>
            </a:r>
            <a:r>
              <a:rPr b="1" lang="en-US" sz="54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Century Learner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ultural Brain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This digital generation has developed “hyperlinked minds” 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76320"/>
            <a:ext cx="914400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Z-Pattern Learner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12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Garamond"/>
              </a:rPr>
              <a:t>Read from left to right and top  to bottom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-Pattern Learners (Digitial Learners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gnore right side and bottom of pag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imics video games and web surf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Digital Learn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ck access and multiple sources of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i-tas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fer pics, sound, videos—images vs. tex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-media and many sources at o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fer to network with others vs. individual/independent 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arn for right now; “just in time”; adapt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ant gratification, want affirmation and atten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arning to be relevant, fun, usefu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Shape learning to the students rather shaping the students to the learning as we do now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To keep the digital learner motivated learning must be: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alibri"/>
                <a:ea typeface="Calibri"/>
              </a:rPr>
              <a:t>FUN          RELEVANT          USEFUL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Meehl</dc:creator>
  <dc:description/>
  <dc:language>en-US</dc:language>
  <cp:lastModifiedBy>Windows User</cp:lastModifiedBy>
  <dcterms:modified xsi:type="dcterms:W3CDTF">2015-03-28T15:22:55Z</dcterms:modified>
  <cp:revision>3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